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B1BF-A136-4D85-8A0C-DA8BB8555F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5334-5E87-4676-B84A-FFD2FFD82C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7D28-DE0E-470B-AA4C-28A5EF97C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CD3-D9F9-409C-A19B-6BE656842F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7CF-02EB-4252-A3EE-161F339A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028-BEFB-4845-A901-6D59F50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779-108A-4EEA-B882-0071DCA7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C3C-53F6-4B8D-B9F1-0C7F8AD5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5C4-1F3A-445C-A38D-66EA57D9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18A-9058-434D-BA64-303BB25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67E-5E71-4D4F-9555-C8DF0A90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579-4BF0-4FF7-8CE9-9CCFDB0C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DCB-4D92-472D-A8DD-4B16B48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40C-5B9C-4DB4-8B96-BFCDCDD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7A1-8F7C-45B4-8395-5D12F4A0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063-69F7-44B6-AD78-3F50C4E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D5A-DB13-42B8-AB74-D5C74593F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image001"/>
          <p:cNvPicPr/>
          <p:nvPr/>
        </p:nvPicPr>
        <p:blipFill>
          <a:blip r:embed="rId1"/>
          <a:srcRect l="3476" t="0" r="68169" b="16398"/>
          <a:stretch/>
        </p:blipFill>
        <p:spPr>
          <a:xfrm>
            <a:off x="428760" y="3643200"/>
            <a:ext cx="239544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428760" y="1071720"/>
            <a:ext cx="2357280" cy="2252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image001"/>
          <p:cNvPicPr/>
          <p:nvPr/>
        </p:nvPicPr>
        <p:blipFill>
          <a:blip r:embed="rId3"/>
          <a:stretch/>
        </p:blipFill>
        <p:spPr>
          <a:xfrm>
            <a:off x="500040" y="214200"/>
            <a:ext cx="237168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357200" y="4071960"/>
            <a:ext cx="87336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ttp://www.iconshock.com/img/product/pr_VL000133.jpg"/>
          <p:cNvPicPr/>
          <p:nvPr/>
        </p:nvPicPr>
        <p:blipFill>
          <a:blip r:embed="rId1"/>
          <a:stretch/>
        </p:blipFill>
        <p:spPr>
          <a:xfrm>
            <a:off x="2286000" y="164304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42884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tate global to the east show Australia in lower left quadrant and Americas in the right quadr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714680" y="564372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mylogodesign.com/logo-sets.php?p=16&amp;r=55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71640" y="852480"/>
            <a:ext cx="7200720" cy="5153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214720" y="6000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ttp://www.mylogodesign.com/logo-sets.php?p=4&amp;r=3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3:53:47Z</dcterms:created>
  <dc:creator>Dhiraj</dc:creator>
  <dc:description/>
  <dc:language>en-US</dc:language>
  <cp:lastModifiedBy>Peter Gillie</cp:lastModifiedBy>
  <dcterms:modified xsi:type="dcterms:W3CDTF">2009-06-04T08:24:16Z</dcterms:modified>
  <cp:revision>15</cp:revision>
  <dc:subject/>
  <dc:title>Slide 1</dc:title>
</cp:coreProperties>
</file>